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7C3E-B6C3-40BC-93D7-D1DFB35C2371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577E-B4C3-4D27-9AB8-6494FCA4F58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9176-6519-4E46-A7DB-DA899D2A2E2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0D74-CF5E-4163-BCDB-29C5B186DA6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902F-4EA4-45AD-A56E-F65AEF2081A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124C-FED0-4130-8C1F-C8889DFB71E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B3A2-96E2-405A-BC4C-CC76FB6F1C0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E1F5-2CA0-47AB-91AD-0F8B3854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4D5-E794-42F0-BB5B-69DBE755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2ED-8915-45E6-8433-4B7723E5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D96-9FDF-4B4C-BB1D-A601DC69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1078-5B0C-4671-919B-ADC4F535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97ED-E399-4A02-A293-2D72712F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6D23-2204-4CE8-99BF-BCEF96B9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136E-EE18-47A9-BB95-9785313F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C516-17C0-4045-8928-65D1A1EE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2224-267C-4EF3-A9C6-EF29EB8F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40C6-E61E-4782-B321-399D6050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075F-5CCE-48B1-9FE7-28615CBF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8B95-F50D-4B3F-8768-F6D84367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6418-6A1F-4AD0-A162-676DD8EC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815F-9008-48B3-8AC9-C17B11E6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2332-90E0-4939-B02F-AF6314AA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0BCB-820A-443A-A7A6-341EC482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AFB-C4B6-46D6-82E0-59353BD7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493C-3F53-4822-9FAB-81D18FAE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1041-3EB5-4D91-8480-E02848C8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438-CEC9-472A-9576-983B896F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B6B-840D-49A4-A9C4-52E48244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4C6-0002-45B9-A8B9-C6334AFB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798-644F-4B9E-B1BF-01703EF0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1A74-2C71-4BB2-B0BE-CFFFD5D3328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5AA2-2083-4A80-AB1D-F13A801FE65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jiet ar jaunieti sagatavošanos intervijai, uzvedību intervijas laikā un pēc t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Atcerēties, ka jau tagad tiek veidota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jaunieša-darbinieka reputācija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INTERVIJAS ETIĶ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3924360" y="4581360"/>
            <a:ext cx="1295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915920"/>
            <a:ext cx="619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22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īt visu, ko var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st intervijas mērķi – kas jāuzzina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īt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t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1557360"/>
            <a:ext cx="828036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erakstīt intervējamās personas vārdu, uzvārdu un amat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skaidrot, kur notiks intervija un kā tur nokļū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kavēt, taču neierasties arī pārāk savlaicīg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teikti informēt par kavēšanu vai neierašan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evērot uzņēmuma iekšējās kārtības noteikum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  <a:p>
            <a:pPr lvl="1" marL="42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teikties par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gt ieteikt vēl kādu, kurš varētu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īt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t uzzināto informāciju un kā to izmantot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veltīto laiku un atbalstu, jaunietis parāda, ka prot novērtēt pūles un rada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7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2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savus aizspriedumus un stereotipus par darba tir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iespējas atbalstīt jaunieš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76720" y="4653000"/>
            <a:ext cx="244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20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es varu palīdzēt savam bērnam iepazīt darba tir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Mani aizspriedumi un stereotipi, to ietekme uz manu bēr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profesijas pārstāv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darba vietas darbi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eredzējis darba meklē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lsētas/ciema/novada iedzīvo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Latvijas pilson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VARU PALĪDZĒT SAVAM BĒRNAM IEPAZĪT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builds,business,businessmen,challenges,complete,Concepts,Fotolia,ideas,jigsaws,men,Photographs,pieces,pushes,puzzles,solutions,solve,struggles,teams,teamwork,work"/>
          <p:cNvPicPr/>
          <p:nvPr/>
        </p:nvPicPr>
        <p:blipFill>
          <a:blip r:embed="rId1"/>
          <a:srcRect l="9303" t="16281" r="9280" b="13932"/>
          <a:stretch/>
        </p:blipFill>
        <p:spPr>
          <a:xfrm>
            <a:off x="5867280" y="4324320"/>
            <a:ext cx="22338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5700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Aizspriedumi vai stereotipi var atturēt jaunieti no mēģinājumiem iepazīt noteiktas profesionālās jom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gatīva pieredze var radīt negatīvu attieksmi pret darba devējiem, darba interviju vai noteiktām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ANI AIZSPRIEDUMI UN STEREOTIPI PAR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800080"/>
                </a:solidFill>
                <a:latin typeface="Calibri"/>
              </a:rPr>
              <a:t>AIZSPRIEDUMI UN STEREOTIP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412640"/>
            <a:ext cx="865008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m jā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s nedrīkst 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nav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profesionāl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augstāk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9" name="Picture 7" descr="negative.WMF"/>
          <p:cNvPicPr/>
          <p:nvPr/>
        </p:nvPicPr>
        <p:blipFill>
          <a:blip r:embed="rId1"/>
          <a:srcRect l="8527" t="8641" r="8984" b="12122"/>
          <a:stretch/>
        </p:blipFill>
        <p:spPr>
          <a:xfrm>
            <a:off x="7164360" y="494172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2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JIET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84464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līdziet jaunietim sagatavot jautājumus, ko uzdot, norādiet uz tēmām, par kurām jautāt un paskaidrojiet, kāpēc to ir svarīgi uzzināt.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academic,careers,children,daughters,education,employees,families,females,girls,instructors,jobs,mothers,occupations,parents,people,people at work,persons,schools,students,teachers,tutors,vocations,women,workers,working"/>
          <p:cNvPicPr/>
          <p:nvPr/>
        </p:nvPicPr>
        <p:blipFill>
          <a:blip r:embed="rId1"/>
          <a:stretch/>
        </p:blipFill>
        <p:spPr>
          <a:xfrm>
            <a:off x="3348000" y="3789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10:33:26Z</dcterms:modified>
  <cp:revision>374</cp:revision>
  <dc:subject/>
  <dc:title>Slide 1</dc:title>
</cp:coreProperties>
</file>